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barney.wav" ContentType="audio/x-wav"/>
  <Override PartName="/ppt/media/RICOCHET.WAV" ContentType="audio/x-wav"/>
  <Override PartName="/ppt/media/image13.png" ContentType="image/png"/>
  <Override PartName="/ppt/media/DRUMROLL.WAV" ContentType="audio/x-wav"/>
  <Override PartName="/ppt/media/image18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C6A-8CDA-4622-B9BB-E8C30DAD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2C4-3D1C-426E-92D8-1497BB2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69B-36D4-493D-963D-51ACD65D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CD5-FA3B-4D43-8232-63630ECF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A2C-A17D-4FA1-A547-727A425B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36C7-04B6-4A2C-9501-9720E8A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9B3-ABB0-4849-8B15-355A364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D6D9-7593-4458-BFB2-7FC53BCA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8EB7-8C12-44B6-9243-B439BAA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9CC-06B1-4A4C-8D6B-68C0FDF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05EB-9744-4946-8E9C-ECCB7DF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579-3241-4F9B-80AF-41B2B7F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9CCA-5060-4488-9D15-80D4F8C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DDA-CA0F-4A26-89CD-98DB164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280C-A0FA-4000-A8C7-6B372E5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26AE-6C9D-493B-A833-A953F4D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1960-52BB-4D03-8DE6-C033420B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FBC-B743-4E5A-A778-35B9EE5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32C-77B3-4A7A-A83E-4716B5B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83B-0D87-4C10-BA48-C28EF48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981-733C-4E78-8424-7D79BFE1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40D-6466-4F17-9264-2162FCD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5F4-BB75-445A-9400-18BB4F68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5F9-5B74-43B1-97D6-CC2720C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D588-D3E7-4101-BDF6-A57D5EFC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D685-A9CD-4FDC-84DB-9A831BAA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barne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APPLAUSE.WAV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APPLAUSE.WAV" TargetMode="External"/><Relationship Id="rId3" Type="http://schemas.openxmlformats.org/officeDocument/2006/relationships/image" Target="../media/image14.png"/><Relationship Id="rId4" Type="http://schemas.openxmlformats.org/officeDocument/2006/relationships/hyperlink" Target="file:///tmp/home/.config/libreoffice/4/user/gallery/buzzer.wav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buzzer.wav" TargetMode="Externa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PPLAUSE.WAV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audio" Target="../media/DRUMROLL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914400" y="533520"/>
            <a:ext cx="7238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38080" y="32767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e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ncy Langston and Joanne Whi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detectiv2"/>
          <p:cNvPicPr/>
          <p:nvPr/>
        </p:nvPicPr>
        <p:blipFill>
          <a:blip r:embed="rId3"/>
          <a:stretch/>
        </p:blipFill>
        <p:spPr>
          <a:xfrm>
            <a:off x="35812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2895480" y="2666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AutoShape 3">
            <a:hlinkClick r:id="rId2" action="ppaction://hlinksldjump"/>
          </p:cNvPr>
          <p:cNvSpPr/>
          <p:nvPr/>
        </p:nvSpPr>
        <p:spPr>
          <a:xfrm>
            <a:off x="6553080" y="441972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19500" y="3794"/>
                </a:moveTo>
                <a:lnTo>
                  <a:pt x="33513" y="10800"/>
                </a:lnTo>
                <a:lnTo>
                  <a:pt x="19500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6858000" y="472428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17" h="21600">
                <a:moveTo>
                  <a:pt x="28452" y="10800"/>
                </a:moveTo>
                <a:lnTo>
                  <a:pt x="42465" y="3794"/>
                </a:lnTo>
                <a:lnTo>
                  <a:pt x="42465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533520"/>
            <a:ext cx="815328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me before you can mail a letter. Paste me on an envelop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mbox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9320" y="32004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1flagb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276720"/>
            <a:ext cx="3062520" cy="198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934320" y="457200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858000" y="4724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10800"/>
                </a:moveTo>
                <a:lnTo>
                  <a:pt x="34596" y="3794"/>
                </a:lnTo>
                <a:lnTo>
                  <a:pt x="34596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43000" y="458640"/>
            <a:ext cx="65530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wh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me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rink me when you are thirs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milk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4290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oj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6172200" y="480060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70" h="21600">
                <a:moveTo>
                  <a:pt x="32578" y="3794"/>
                </a:moveTo>
                <a:lnTo>
                  <a:pt x="46591" y="10800"/>
                </a:lnTo>
                <a:lnTo>
                  <a:pt x="32578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400800" y="4724280"/>
            <a:ext cx="2286000" cy="76212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9" h="21600">
                <a:moveTo>
                  <a:pt x="25378" y="10800"/>
                </a:moveTo>
                <a:lnTo>
                  <a:pt x="39391" y="3794"/>
                </a:lnTo>
                <a:lnTo>
                  <a:pt x="39391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533520"/>
            <a:ext cx="815328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ok like a bab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give me a na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like to play with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bear0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429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byran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3505320"/>
            <a:ext cx="2362320" cy="18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91320" y="4572000"/>
            <a:ext cx="2819160" cy="762120"/>
          </a:xfrm>
          <a:custGeom>
            <a:avLst/>
            <a:gdLst>
              <a:gd name="textAreaLeft" fmla="*/ 49320 w 2819160"/>
              <a:gd name="textAreaRight" fmla="*/ 2769840 w 2819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9873" h="21600">
                <a:moveTo>
                  <a:pt x="0" y="0"/>
                </a:moveTo>
                <a:lnTo>
                  <a:pt x="79873" y="0"/>
                </a:lnTo>
                <a:lnTo>
                  <a:pt x="79873" y="21600"/>
                </a:lnTo>
                <a:lnTo>
                  <a:pt x="0" y="21600"/>
                </a:lnTo>
                <a:close/>
              </a:path>
              <a:path fill="lightenLess" w="79873" h="21600">
                <a:moveTo>
                  <a:pt x="0" y="0"/>
                </a:moveTo>
                <a:lnTo>
                  <a:pt x="79873" y="0"/>
                </a:lnTo>
                <a:lnTo>
                  <a:pt x="78473" y="1400"/>
                </a:lnTo>
                <a:lnTo>
                  <a:pt x="1400" y="1400"/>
                </a:lnTo>
                <a:close/>
              </a:path>
              <a:path fill="darken" w="79873" h="21600">
                <a:moveTo>
                  <a:pt x="79873" y="0"/>
                </a:moveTo>
                <a:lnTo>
                  <a:pt x="79873" y="21600"/>
                </a:lnTo>
                <a:lnTo>
                  <a:pt x="78473" y="20200"/>
                </a:lnTo>
                <a:lnTo>
                  <a:pt x="78473" y="1400"/>
                </a:lnTo>
                <a:close/>
              </a:path>
              <a:path fill="darkenLess" w="79873" h="21600">
                <a:moveTo>
                  <a:pt x="79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73" y="20200"/>
                </a:lnTo>
                <a:close/>
              </a:path>
              <a:path fill="lighten" w="79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873" h="21600">
                <a:moveTo>
                  <a:pt x="32930" y="3794"/>
                </a:moveTo>
                <a:lnTo>
                  <a:pt x="46943" y="10800"/>
                </a:lnTo>
                <a:lnTo>
                  <a:pt x="32930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533520" y="45720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the clues.  Click on the correct pic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172200" y="4343400"/>
            <a:ext cx="2590920" cy="990720"/>
          </a:xfrm>
          <a:custGeom>
            <a:avLst/>
            <a:gdLst>
              <a:gd name="textAreaLeft" fmla="*/ 64080 w 2590920"/>
              <a:gd name="textAreaRight" fmla="*/ 2526840 w 2590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6475" h="21600">
                <a:moveTo>
                  <a:pt x="0" y="0"/>
                </a:moveTo>
                <a:lnTo>
                  <a:pt x="56475" y="0"/>
                </a:lnTo>
                <a:lnTo>
                  <a:pt x="56475" y="21600"/>
                </a:lnTo>
                <a:lnTo>
                  <a:pt x="0" y="21600"/>
                </a:lnTo>
                <a:close/>
              </a:path>
              <a:path fill="lightenLess" w="56475" h="21600">
                <a:moveTo>
                  <a:pt x="0" y="0"/>
                </a:moveTo>
                <a:lnTo>
                  <a:pt x="56475" y="0"/>
                </a:lnTo>
                <a:lnTo>
                  <a:pt x="55075" y="1400"/>
                </a:lnTo>
                <a:lnTo>
                  <a:pt x="1400" y="1400"/>
                </a:lnTo>
                <a:close/>
              </a:path>
              <a:path fill="darken" w="56475" h="21600">
                <a:moveTo>
                  <a:pt x="56475" y="0"/>
                </a:moveTo>
                <a:lnTo>
                  <a:pt x="56475" y="21600"/>
                </a:lnTo>
                <a:lnTo>
                  <a:pt x="55075" y="20200"/>
                </a:lnTo>
                <a:lnTo>
                  <a:pt x="55075" y="1400"/>
                </a:lnTo>
                <a:close/>
              </a:path>
              <a:path fill="darkenLess" w="56475" h="21600">
                <a:moveTo>
                  <a:pt x="5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5" y="20200"/>
                </a:lnTo>
                <a:close/>
              </a:path>
              <a:path fill="lighten" w="5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5" h="21600">
                <a:moveTo>
                  <a:pt x="21231" y="10800"/>
                </a:moveTo>
                <a:lnTo>
                  <a:pt x="35244" y="3794"/>
                </a:lnTo>
                <a:lnTo>
                  <a:pt x="35244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41044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8"/>
          <p:cNvSpPr txBox="1"/>
          <p:nvPr/>
        </p:nvSpPr>
        <p:spPr>
          <a:xfrm>
            <a:off x="2590920" y="144792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gratul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97180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276720" y="28954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 are now a member of the Detective Hall of Fam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2" descr="detectiv2"/>
          <p:cNvPicPr/>
          <p:nvPr/>
        </p:nvPicPr>
        <p:blipFill>
          <a:blip r:embed="rId3"/>
          <a:stretch/>
        </p:blipFill>
        <p:spPr>
          <a:xfrm>
            <a:off x="3581280" y="48769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pupp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9320" y="4419720"/>
            <a:ext cx="1714320" cy="180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abypg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4724280"/>
            <a:ext cx="216216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09480" y="533520"/>
            <a:ext cx="815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sleep in a cri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rink from a bott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annot walk or tal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7391520" y="4648320"/>
            <a:ext cx="1447560" cy="76176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37" h="21600">
                <a:moveTo>
                  <a:pt x="0" y="0"/>
                </a:moveTo>
                <a:lnTo>
                  <a:pt x="41037" y="0"/>
                </a:lnTo>
                <a:lnTo>
                  <a:pt x="41037" y="21600"/>
                </a:lnTo>
                <a:lnTo>
                  <a:pt x="0" y="21600"/>
                </a:lnTo>
                <a:close/>
              </a:path>
              <a:path fill="lightenLess" w="41037" h="21600">
                <a:moveTo>
                  <a:pt x="0" y="0"/>
                </a:moveTo>
                <a:lnTo>
                  <a:pt x="41037" y="0"/>
                </a:lnTo>
                <a:lnTo>
                  <a:pt x="39637" y="1400"/>
                </a:lnTo>
                <a:lnTo>
                  <a:pt x="1400" y="1400"/>
                </a:lnTo>
                <a:close/>
              </a:path>
              <a:path fill="darken" w="41037" h="21600">
                <a:moveTo>
                  <a:pt x="41037" y="0"/>
                </a:moveTo>
                <a:lnTo>
                  <a:pt x="41037" y="21600"/>
                </a:lnTo>
                <a:lnTo>
                  <a:pt x="39637" y="20200"/>
                </a:lnTo>
                <a:lnTo>
                  <a:pt x="39637" y="1400"/>
                </a:lnTo>
                <a:close/>
              </a:path>
              <a:path fill="darkenLess" w="41037" h="21600">
                <a:moveTo>
                  <a:pt x="41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37" y="20200"/>
                </a:lnTo>
                <a:close/>
              </a:path>
              <a:path fill="lighten" w="41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37" h="21600">
                <a:moveTo>
                  <a:pt x="13512" y="3794"/>
                </a:moveTo>
                <a:lnTo>
                  <a:pt x="27525" y="10800"/>
                </a:lnTo>
                <a:lnTo>
                  <a:pt x="13512" y="17806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981080" y="609480"/>
            <a:ext cx="62485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AutoShape 3">
            <a:hlinkClick r:id="rId2" action="ppaction://hlinksldjump"/>
          </p:cNvPr>
          <p:cNvSpPr/>
          <p:nvPr/>
        </p:nvSpPr>
        <p:spPr>
          <a:xfrm>
            <a:off x="304920" y="449568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2" h="21600">
                <a:moveTo>
                  <a:pt x="5750" y="10800"/>
                </a:moveTo>
                <a:lnTo>
                  <a:pt x="19763" y="3794"/>
                </a:lnTo>
                <a:lnTo>
                  <a:pt x="19763" y="17806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38080" y="304920"/>
            <a:ext cx="754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me on your f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will keep you warm and d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r me when it rai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36-324cu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3505320"/>
            <a:ext cx="177804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6Au17jHWlX3kiJGUFh1nPlvT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9920" y="3657600"/>
            <a:ext cx="144612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AutoShape 3">
            <a:hlinkClick r:id="rId2" action="ppaction://hlinksldjump"/>
          </p:cNvPr>
          <p:cNvSpPr/>
          <p:nvPr/>
        </p:nvSpPr>
        <p:spPr>
          <a:xfrm>
            <a:off x="6477120" y="4572000"/>
            <a:ext cx="2286000" cy="76212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9" h="21600">
                <a:moveTo>
                  <a:pt x="25378" y="3794"/>
                </a:moveTo>
                <a:lnTo>
                  <a:pt x="39391" y="10800"/>
                </a:lnTo>
                <a:lnTo>
                  <a:pt x="25378" y="17806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3">
            <a:hlinkClick r:id="rId2" action="ppaction://hlinksldjump"/>
          </p:cNvPr>
          <p:cNvSpPr/>
          <p:nvPr/>
        </p:nvSpPr>
        <p:spPr>
          <a:xfrm>
            <a:off x="7315200" y="44956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10800"/>
                </a:moveTo>
                <a:lnTo>
                  <a:pt x="26632" y="3794"/>
                </a:lnTo>
                <a:lnTo>
                  <a:pt x="26632" y="17806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66680" y="228600"/>
            <a:ext cx="678204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grow on an 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 me in hot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puff up and tast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ries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31240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pcor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71600" y="3200400"/>
            <a:ext cx="163512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7:25:34Z</dcterms:created>
  <dc:creator>Pre-Installed-User</dc:creator>
  <dc:description/>
  <dc:language>en-US</dc:language>
  <cp:lastModifiedBy>teacher</cp:lastModifiedBy>
  <dcterms:modified xsi:type="dcterms:W3CDTF">2010-10-14T20:12:05Z</dcterms:modified>
  <cp:revision>13</cp:revision>
  <dc:subject/>
  <dc:title>No Slide Title</dc:title>
</cp:coreProperties>
</file>